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DEFE-B6D6-4F0A-B33D-CB407A60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2542-9606-4832-BA84-CFFB314D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965F-4ECF-4711-AD71-E8AB600A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3FB4-80CE-4A8B-8C2E-0CE5F8A4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5E28-E72A-4C49-A4E5-B6746841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059E-C41D-4F00-B362-A246D684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5CFD-18FE-488C-8CE6-DC811AEA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3076-9C64-4FC5-A7F2-A5993720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94EA-93AB-4B9A-A42C-CE2FDD68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0FC0-D4D9-4C79-9B07-A4624F12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F6CB-EF18-44E6-AF7E-3DA04A55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68AE-8CA3-46E0-8355-BEB94ACD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CEE3-1B86-4C9C-8774-FB34AC0E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9F37-DB83-4E7B-BBEA-B9519FA7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2218-1B22-418D-A8EE-6FD5C6CF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14D2-8022-4702-887C-196530CE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29C4-9442-46A4-8D89-476AE067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C046C-78F8-4E8E-8AD6-5BDE0FAA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CE3D6-3ED0-42AE-8AB4-C43A46D7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0EFE9-4C32-4E40-A280-70577F41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8623D-5EDA-4C54-B41C-35A1F2FE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2B51E-8D29-4317-AA9E-ED554399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5F5F-120F-4B77-81F8-6E367CD9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CC635-F297-4A54-B75E-36BD541A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7F403-665A-435C-8FA2-E172352A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D9E95-D09B-4656-B1DF-C31D32F5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ADDB9-F594-45DE-AEDC-53FEDC31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3D00F-FBFA-4104-8182-810A3A57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5E383-2D7C-4E23-AAA0-30145182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B6424-E11B-41F9-8D34-16605B17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9000D-9BFF-4E13-9F2C-7A56338C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1EA74-DFB2-4B73-88F9-B5290D89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D10C7-386F-4658-B61F-E5F80AEE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713B-AE80-4E3A-9F08-DCC0BABB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81FAD-2DA3-4666-90B2-87769B6E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4277C-CD6D-4866-B8D1-5F313A99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E7581-71F8-4C47-8ABA-F125E67D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BD4B5-9E07-4DAE-9DA7-B1AF3A48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9C0F9-733E-4715-8AD3-9C1990D2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789E6-BB9F-4C0D-ABDE-D99F4920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69A2F-D7E2-4F28-8AD2-0F1E5501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08EE9-725D-4FD8-9309-6640C579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AE926-A6F4-49FE-A0B0-5EE8BF64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C04D-00A8-4C6F-9421-91F7E5FA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400B-AC0A-410C-A1E6-D895C0EF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C9A1-5E0B-49E7-82B5-C045030D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9E76-6AA5-4737-8174-4170C5AF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ACA5-25AC-436E-9494-38C9995F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D72C-331B-40A0-8039-DD429644CB2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113D-8673-4452-BF21-110F54AFC35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F76D-4C8C-42BE-A57A-D05E7B48D80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3BA4-3C24-4E90-AED9-AEA0F0CB8BB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835200"/>
            <a:ext cx="7864200" cy="1901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2 Lab1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Charts and Visual Design Rule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1295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think that Pie Chart is the best type of charts to compare between years 2000 and 2007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FE0F-0910-4ECC-A25E-456D3341200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47712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0666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this on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5A96-C411-439C-B883-39092B40FD4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ome Bad Examp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Content Placeholder 6" descr="phillips2.jpg"/>
          <p:cNvPicPr/>
          <p:nvPr/>
        </p:nvPicPr>
        <p:blipFill>
          <a:blip r:embed="rId1"/>
          <a:stretch/>
        </p:blipFill>
        <p:spPr>
          <a:xfrm>
            <a:off x="685800" y="1752480"/>
            <a:ext cx="8229600" cy="4230720"/>
          </a:xfrm>
          <a:prstGeom prst="rect">
            <a:avLst/>
          </a:prstGeom>
          <a:ln w="0">
            <a:noFill/>
          </a:ln>
        </p:spPr>
      </p:pic>
      <p:sp>
        <p:nvSpPr>
          <p:cNvPr id="24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CF1F-C09F-4899-8D3F-DC514F88A86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Content Placeholder 6" descr="how_to3.gif"/>
          <p:cNvPicPr/>
          <p:nvPr/>
        </p:nvPicPr>
        <p:blipFill>
          <a:blip r:embed="rId1"/>
          <a:stretch/>
        </p:blipFill>
        <p:spPr>
          <a:xfrm>
            <a:off x="762120" y="1447920"/>
            <a:ext cx="7924680" cy="4316400"/>
          </a:xfrm>
          <a:prstGeom prst="rect">
            <a:avLst/>
          </a:prstGeom>
          <a:ln w="0">
            <a:noFill/>
          </a:ln>
        </p:spPr>
      </p:pic>
      <p:sp>
        <p:nvSpPr>
          <p:cNvPr id="25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7E64-8D7F-4A18-91D1-337CAFBE5BB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Content Placeholder 6" descr="image003.jpg"/>
          <p:cNvPicPr/>
          <p:nvPr/>
        </p:nvPicPr>
        <p:blipFill>
          <a:blip r:embed="rId1"/>
          <a:stretch/>
        </p:blipFill>
        <p:spPr>
          <a:xfrm>
            <a:off x="609480" y="1371600"/>
            <a:ext cx="7391520" cy="4592520"/>
          </a:xfrm>
          <a:prstGeom prst="rect">
            <a:avLst/>
          </a:prstGeom>
          <a:ln w="0">
            <a:noFill/>
          </a:ln>
        </p:spPr>
      </p:pic>
      <p:sp>
        <p:nvSpPr>
          <p:cNvPr id="25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B3A0-6327-4386-88ED-A6DA093AFAF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769680" y="6019920"/>
            <a:ext cx="79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lilt.ilstu.edu/gmklass/pos138/datadisplay/sections/goodcharts.ht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mall Multi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2" name="Content Placeholder 6" descr="Smallmult.png"/>
          <p:cNvPicPr/>
          <p:nvPr/>
        </p:nvPicPr>
        <p:blipFill>
          <a:blip r:embed="rId1"/>
          <a:stretch/>
        </p:blipFill>
        <p:spPr>
          <a:xfrm>
            <a:off x="1309680" y="1940040"/>
            <a:ext cx="6524640" cy="3774960"/>
          </a:xfrm>
          <a:prstGeom prst="rect">
            <a:avLst/>
          </a:prstGeom>
          <a:ln w="0">
            <a:noFill/>
          </a:ln>
        </p:spPr>
      </p:pic>
      <p:sp>
        <p:nvSpPr>
          <p:cNvPr id="26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A532-071F-40FD-9AAB-2191E683C2B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TextBox 7"/>
          <p:cNvSpPr/>
          <p:nvPr/>
        </p:nvSpPr>
        <p:spPr>
          <a:xfrm>
            <a:off x="1364760" y="5943600"/>
            <a:ext cx="31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en.wikipedia.org/wik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, sheet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0880" y="18284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chart from the data set provid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F3E9-E48C-44AB-AA97-120311C00A5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5867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what to do to make the chart looks bette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2B3F-AA6E-41D2-AFA1-4549BF5EA97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oa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Chart Wizard to create the default chart on a data se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izing a chart according to good chart design principl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643B-F107-48DE-9C03-BE7C5A1A7D0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sing Chart Wizard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the following spreadsheet in Exce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top menu bar, select 'Insert' using your mouse. You should now see a group of icons labeled 'Charts', under the top menu ba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the data to be included in the chart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your mouse to select the 'Column' chart. A drop down menu should appear showing the different types of column charts available. Select the type you wa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w column chart should have been added to your current worksheet. You can move the new chart by clicking-and-dragging it to a new location in the workshee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F93B-FDB2-439A-8F27-32699981B28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 (Column Chart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data in sheet1 to make a 2-D column cha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Data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er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lum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-D Colum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2A0E-44B0-42DF-B2B8-FFADABBCD96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Chart 6" descr=""/>
          <p:cNvPicPr/>
          <p:nvPr/>
        </p:nvPicPr>
        <p:blipFill>
          <a:blip r:embed="rId1"/>
          <a:stretch/>
        </p:blipFill>
        <p:spPr>
          <a:xfrm>
            <a:off x="2432160" y="2968560"/>
            <a:ext cx="45846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4200" indent="-45720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the color of the chart bars to be r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49240" indent="-457200">
              <a:lnSpc>
                <a:spcPct val="8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t Tools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ig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4200" indent="-45720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a horizontal title “Names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49240" indent="-457200">
              <a:lnSpc>
                <a:spcPct val="8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t Tools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yout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xis Titles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mary Horizontal Axis Titl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4200" indent="-45720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a vertical title “Length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4200" indent="-45720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 both titles to 20 pt and r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49240" indent="-457200">
              <a:lnSpc>
                <a:spcPct val="8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click on the title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ma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4200" indent="-45720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the default title of the chart to be Family Childr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49240" indent="-457200">
              <a:lnSpc>
                <a:spcPct val="8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t Tools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yout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art Titl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4200" indent="-45720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 the legend in the ch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49240" indent="-457200">
              <a:lnSpc>
                <a:spcPct val="8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t Tools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yout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egend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n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4200" indent="-45720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the Horizontal Gridlines from the Ch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49240" indent="-457200">
              <a:lnSpc>
                <a:spcPct val="8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t Tools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yout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mary Horizontal  Gridlines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n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4200" indent="-45720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4924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1B1B-4D47-4889-9E90-4CBA2083FB1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C33A-3BF9-4B77-82BA-77F88964E6A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 (Pie Chart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Data in sheet2 to make Pie Chart for year 20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i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-D P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487D-F53B-41CE-8D37-F3768290051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662940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another Chart for year 2007 and change its color to gre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Data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er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i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-D P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FEDA-1B3B-42D2-8013-B25F7D6EFDC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640080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80880" y="8377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the legend of the second chart (2007) to be shown on the to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Data in second chart (2007) as follow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1CA4-713D-4A1F-A023-96CE8F58350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315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ina</cp:lastModifiedBy>
  <dcterms:modified xsi:type="dcterms:W3CDTF">2009-01-26T18:26:45Z</dcterms:modified>
  <cp:revision>97</cp:revision>
  <dc:subject/>
  <dc:title>CPSC 203</dc:title>
</cp:coreProperties>
</file>